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F444-AC9A-46D9-A486-42AAEEEB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C6CA-D01A-468A-B743-51661DF7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34B2-0840-4CE6-86A6-DB62FD68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B116-1D66-44E5-8E24-7702F8CB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FA07-4CC2-4090-B76C-01DAC4C9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FB62-7670-4607-8E68-30907E2F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D4A3-E9B3-468E-B642-47E7B1BB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0FF0-07F3-4B14-979E-D60C6DD3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EBF0-DA57-4D5C-9A44-66DBE701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04F7-2727-4F9A-BC88-D38E845E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6B9B-CC4E-45E7-BBCC-3FAE6324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A7A2-D084-40E4-ADB3-E6747CC1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2D3B-C051-4D47-AB12-5909F015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B3D0-C5EF-432F-BF41-A704C98F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A4F1-637A-4BC1-A64E-6B8DC7BC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B35F-4ABE-4592-B028-722920AA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6A69-FB47-42A8-95CC-4ED39362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47B5-A787-4AFC-9772-79ABF1C1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88BC-E3BF-40EA-BB5A-CC3E1CFA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24F7-A7E0-448F-AA34-7A534FCB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11F0-065D-4609-9590-158FE232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4EA-2F65-4285-AE43-EFBC62DD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AA54-69CF-4F0A-867B-B4962012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B453-F38D-4D86-91F5-6979A0EA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6C43-9378-4BDB-A806-50A701EB2DA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65C7-1718-49B8-B4A1-49FD4F7A028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990720" y="3200400"/>
            <a:ext cx="739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Los verbos reflexivos</a:t>
            </a:r>
            <a:endParaRPr b="0" lang="en-US" sz="9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Os laváis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569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Vosotros (lavarse) el pelo con champú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Se preparan 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569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los ( prepararse) rápidament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se entrena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Luisa (entrenarse) todos los días.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1425240"/>
            <a:ext cx="809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Se peinan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14400" y="2927520"/>
            <a:ext cx="74167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Ellas (peinarse) el pelo en el baño.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Nos secamos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53316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Nosotros(secarse) con unas toallas grandes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Te despiertas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2927520"/>
            <a:ext cx="78739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Todos los días tú (despertarse- e&gt;ie) a las 5:30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Se cepilla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90720" y="2927520"/>
            <a:ext cx="73404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  <a:ea typeface="Arial"/>
              </a:rPr>
              <a:t>Paco (cepillarse) los dientes 3 veces cada día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"/>
              </a:rPr>
              <a:t>El Pretérito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Me levanté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yer, yo (levantarse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A las 6:0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Se entrenaron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2927520"/>
            <a:ext cx="69595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Anoche ellos (entrenarse) al gimnasio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990720" y="320040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l Presente</a:t>
            </a:r>
            <a:endParaRPr b="0" lang="en-US" sz="9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Nos despertamos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2640" y="2927520"/>
            <a:ext cx="71881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 s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ábado pasado nosotros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(despertarse) tarde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Me duché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Yo (ducharse) a las 7:00 anoche</a:t>
            </a:r>
            <a:r>
              <a:rPr b="0" lang="en-US" sz="5400" spc="-1" strike="noStrike">
                <a:solidFill>
                  <a:srgbClr val="006666"/>
                </a:solidFill>
                <a:latin typeface="Arial"/>
                <a:ea typeface="Arial"/>
              </a:rPr>
              <a:t>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Te afeitaste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142640" y="2927520"/>
            <a:ext cx="71881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Tú (afeitarse) anoche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66"/>
                </a:solidFill>
                <a:latin typeface="Arial"/>
              </a:rPr>
              <a:t>Se maquilló</a:t>
            </a:r>
            <a:endParaRPr b="1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440" y="2927520"/>
            <a:ext cx="76453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Ayer mi amiga no (maquillarse) para la escuela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Se acostó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8483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Juan(acostarse) a las 11:00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Os lavasteis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569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Vosotros (lavarse) el pelo con champú ayer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Se prepararon 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569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los ( prepararse) rápidamente ayer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te entrenaste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Tú (entrenarse) ayer.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1425240"/>
            <a:ext cx="809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Se peinaron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2927520"/>
            <a:ext cx="74167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Ellas (peinarse) en el baño ayer.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Nos secamos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Nosotros(secarse) con unas toallas grandes ayer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Me levant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iempre yo (levantarse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A las 6:0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Te despertaste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2927520"/>
            <a:ext cx="78739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Tú(despertarse) a las 5:30 esta mañana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Se cepilló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90720" y="2927520"/>
            <a:ext cx="73404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  <a:ea typeface="Arial"/>
              </a:rPr>
              <a:t>Paco (cepillarse) los dientes 3 veces ayer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Se acostó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8483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Juan(acostarse) a las 11:00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Los verbos compañeros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flexive pronouns are attached to the infinitive in a verb phrase with a verbo compañe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levantar</a:t>
            </a:r>
            <a:r>
              <a:rPr b="1" lang="en-US" sz="8800" spc="-1" strike="noStrike" u="sng">
                <a:solidFill>
                  <a:srgbClr val="ff0000"/>
                </a:solidFill>
                <a:uFillTx/>
                <a:latin typeface="Arial"/>
              </a:rPr>
              <a:t>me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569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Yo quiero levantar_____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preparar</a:t>
            </a:r>
            <a:r>
              <a:rPr b="1" lang="en-US" sz="8800" spc="-1" strike="noStrike" u="sng">
                <a:solidFill>
                  <a:srgbClr val="ff0000"/>
                </a:solidFill>
                <a:uFillTx/>
                <a:latin typeface="Arial"/>
              </a:rPr>
              <a:t>se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569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los  van a preparar___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ntrenar</a:t>
            </a:r>
            <a:r>
              <a:rPr b="1" lang="en-US" sz="8800" spc="-1" strike="noStrike" u="sng">
                <a:solidFill>
                  <a:srgbClr val="ff0000"/>
                </a:solidFill>
                <a:uFillTx/>
                <a:latin typeface="Arial"/>
              </a:rPr>
              <a:t>te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Tú vas a entrenar__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1425240"/>
            <a:ext cx="809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peinar</a:t>
            </a:r>
            <a:r>
              <a:rPr b="1" lang="en-US" sz="8800" spc="-1" strike="noStrike" u="sng">
                <a:solidFill>
                  <a:srgbClr val="ff0000"/>
                </a:solidFill>
                <a:uFillTx/>
                <a:latin typeface="Arial"/>
              </a:rPr>
              <a:t>nos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14400" y="2927520"/>
            <a:ext cx="74167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Vamos a peinar__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secar</a:t>
            </a:r>
            <a:r>
              <a:rPr b="1" lang="en-US" sz="8800" spc="-1" strike="noStrike" u="sng">
                <a:solidFill>
                  <a:srgbClr val="ff0000"/>
                </a:solidFill>
                <a:uFillTx/>
                <a:latin typeface="Arial"/>
              </a:rPr>
              <a:t>te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Tú quieres secar____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despertar</a:t>
            </a:r>
            <a:r>
              <a:rPr b="1" lang="en-US" sz="8800" spc="-1" strike="noStrike" u="sng">
                <a:solidFill>
                  <a:srgbClr val="ff0000"/>
                </a:solidFill>
                <a:uFillTx/>
                <a:latin typeface="Arial"/>
              </a:rPr>
              <a:t>os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2927520"/>
            <a:ext cx="78739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Vosotros vais a despertar_____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Se ponen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2927520"/>
            <a:ext cx="69595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Generalmente ellos (ponerse) los jeans para ir a la escuel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cepillar</a:t>
            </a:r>
            <a:r>
              <a:rPr b="1" lang="en-US" sz="8800" spc="-1" strike="noStrike" u="sng">
                <a:solidFill>
                  <a:srgbClr val="ff0000"/>
                </a:solidFill>
                <a:uFillTx/>
                <a:latin typeface="Arial"/>
              </a:rPr>
              <a:t>se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990720" y="2927520"/>
            <a:ext cx="73404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  <a:ea typeface="Arial"/>
              </a:rPr>
              <a:t>Paco va a cepillar__ los dientes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Nos despertamos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42640" y="2927520"/>
            <a:ext cx="71881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Los s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ábados nosotros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(despertarse) tarde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Me duch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Yo (ducharse) por la noche siempre</a:t>
            </a:r>
            <a:r>
              <a:rPr b="0" lang="en-US" sz="5400" spc="-1" strike="noStrike">
                <a:solidFill>
                  <a:srgbClr val="006666"/>
                </a:solidFill>
                <a:latin typeface="Arial"/>
                <a:ea typeface="Arial"/>
              </a:rPr>
              <a:t>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Te afeitas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42640" y="2927520"/>
            <a:ext cx="71881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Tú (afeitarse) por la noche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66"/>
                </a:solidFill>
                <a:latin typeface="Arial"/>
              </a:rPr>
              <a:t>Se maquilla</a:t>
            </a:r>
            <a:endParaRPr b="1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440" y="2927520"/>
            <a:ext cx="76453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A veces mi amiga no (maquillarse) para la escuela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Se acuesta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8483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Juan(acostarse-o&gt;ue) a las 11:00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1:10:45Z</dcterms:created>
  <dc:creator>Tom Shirley</dc:creator>
  <dc:description/>
  <dc:language>en-US</dc:language>
  <cp:lastModifiedBy>Windows User</cp:lastModifiedBy>
  <cp:lastPrinted>2009-04-22T19:24:48Z</cp:lastPrinted>
  <dcterms:modified xsi:type="dcterms:W3CDTF">2014-01-13T20:25:47Z</dcterms:modified>
  <cp:revision>21</cp:revision>
  <dc:subject/>
  <dc:title>PowerPoint Presentation</dc:title>
</cp:coreProperties>
</file>